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7C29C7-C58A-49C0-9F0B-A64C1F8342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1DB87A51-9A22-456E-83C4-6100A9C3F8A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1AE301-5D5B-4ADC-B42F-04AF0E9601A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62096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1CBB96-9E85-4EEA-931A-33D2B331104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62A480-CEAD-453C-8FBD-BD0C1B4BA23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30680" cy="212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CEF360-EA90-493C-B19D-8E9BEB01173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7A8FCB-3739-430C-B7A4-81F7B63D63E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AA1A7E-59E1-4B5D-BE12-C18F7E0E812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7D40DB-DAC2-44F4-BE59-DFB157E184B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973160" y="608040"/>
            <a:ext cx="2827440" cy="2120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99760" y="2854440"/>
            <a:ext cx="5808600" cy="59068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txBody>
          <a:bodyPr lIns="28440" rIns="28440" tIns="28440" bIns="284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F26F68F-D0BA-4323-BBEE-81D29313ECD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20B15F-6A62-4BC8-8A12-CA6EAA481EF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30680" cy="2122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7A8F0863-7706-4AF2-A433-DF36111AC17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1457B95B-3D8F-445C-8F17-48A20834E68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09800" y="1235160"/>
            <a:ext cx="75801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2:  Team Software Proces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26"/>
          <p:cNvSpPr/>
          <p:nvPr/>
        </p:nvSpPr>
        <p:spPr>
          <a:xfrm>
            <a:off x="973080" y="4394160"/>
            <a:ext cx="7542360" cy="15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027"/>
          <p:cNvSpPr/>
          <p:nvPr/>
        </p:nvSpPr>
        <p:spPr>
          <a:xfrm>
            <a:off x="973080" y="1746360"/>
            <a:ext cx="7542360" cy="2647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26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Strategy Rests on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8400" y="1994040"/>
            <a:ext cx="32590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TSP strategy improves performance from the bottom-u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3" name="Group 1030"/>
          <p:cNvGrpSpPr/>
          <p:nvPr/>
        </p:nvGrpSpPr>
        <p:grpSpPr>
          <a:xfrm>
            <a:off x="3287880" y="1978200"/>
            <a:ext cx="4993920" cy="3868200"/>
            <a:chOff x="3287880" y="1978200"/>
            <a:chExt cx="4993920" cy="3868200"/>
          </a:xfrm>
        </p:grpSpPr>
        <p:sp>
          <p:nvSpPr>
            <p:cNvPr id="124" name="Rectangle 1031"/>
            <p:cNvSpPr/>
            <p:nvPr/>
          </p:nvSpPr>
          <p:spPr>
            <a:xfrm>
              <a:off x="3287880" y="4552920"/>
              <a:ext cx="4979880" cy="12934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emb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032"/>
            <p:cNvSpPr/>
            <p:nvPr/>
          </p:nvSpPr>
          <p:spPr>
            <a:xfrm>
              <a:off x="3908880" y="3264840"/>
              <a:ext cx="4358880" cy="12934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033"/>
            <p:cNvSpPr/>
            <p:nvPr/>
          </p:nvSpPr>
          <p:spPr>
            <a:xfrm>
              <a:off x="4298400" y="1978200"/>
              <a:ext cx="3969360" cy="129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Text Box 1034"/>
            <p:cNvSpPr/>
            <p:nvPr/>
          </p:nvSpPr>
          <p:spPr>
            <a:xfrm>
              <a:off x="5258880" y="4702680"/>
              <a:ext cx="3022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cess discipli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erformance measur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Estimating &amp; planning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Quality management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Text Box 1035"/>
            <p:cNvSpPr/>
            <p:nvPr/>
          </p:nvSpPr>
          <p:spPr>
            <a:xfrm>
              <a:off x="5344560" y="3401640"/>
              <a:ext cx="2831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Goal sett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ole assign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ailored team proc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Detailed balanced plan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Text Box 1036"/>
            <p:cNvSpPr/>
            <p:nvPr/>
          </p:nvSpPr>
          <p:spPr>
            <a:xfrm>
              <a:off x="6077520" y="2050920"/>
              <a:ext cx="2125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mmunic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ordin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ject track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isk analysi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30" name="Text Box 1037"/>
          <p:cNvSpPr/>
          <p:nvPr/>
        </p:nvSpPr>
        <p:spPr>
          <a:xfrm>
            <a:off x="1830240" y="4881600"/>
            <a:ext cx="11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Personal Software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Text Box 1038"/>
          <p:cNvSpPr/>
          <p:nvPr/>
        </p:nvSpPr>
        <p:spPr>
          <a:xfrm>
            <a:off x="1830240" y="3173400"/>
            <a:ext cx="11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Team Software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AutoShape 1039"/>
          <p:cNvSpPr/>
          <p:nvPr/>
        </p:nvSpPr>
        <p:spPr>
          <a:xfrm rot="16200000">
            <a:off x="2002680" y="3854880"/>
            <a:ext cx="770040" cy="942840"/>
          </a:xfrm>
          <a:custGeom>
            <a:avLst/>
            <a:gdLst>
              <a:gd name="textAreaLeft" fmla="*/ 0 w 770040"/>
              <a:gd name="textAreaRight" fmla="*/ 770400 w 7700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49" y="0"/>
                </a:lnTo>
                <a:lnTo>
                  <a:pt x="21600" y="10800"/>
                </a:lnTo>
                <a:lnTo>
                  <a:pt x="15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Teams with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54000" y="1914120"/>
            <a:ext cx="41227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facilitates team-building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rough a defined team launch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aunch process kicks off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major project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establishes a common understanding of the work and the development approa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plan is produced to guide the next development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sequent phases kick off with a relaunch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095800" y="1689120"/>
            <a:ext cx="1379520" cy="7221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603760" y="2700360"/>
            <a:ext cx="2614680" cy="110484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ment Phase 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Arc 26"/>
          <p:cNvSpPr/>
          <p:nvPr/>
        </p:nvSpPr>
        <p:spPr>
          <a:xfrm>
            <a:off x="6510240" y="2101680"/>
            <a:ext cx="382680" cy="573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39536b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Oval 28"/>
          <p:cNvSpPr/>
          <p:nvPr/>
        </p:nvSpPr>
        <p:spPr>
          <a:xfrm>
            <a:off x="7362720" y="4005360"/>
            <a:ext cx="1378080" cy="7221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Arc 30"/>
          <p:cNvSpPr/>
          <p:nvPr/>
        </p:nvSpPr>
        <p:spPr>
          <a:xfrm flipH="1" rot="16200000">
            <a:off x="6828480" y="3894120"/>
            <a:ext cx="56340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39536b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6618240" y="5586480"/>
            <a:ext cx="1022400" cy="35244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Phase B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5454720" y="5237280"/>
            <a:ext cx="3200400" cy="1054080"/>
            <a:chOff x="5454720" y="5237280"/>
            <a:chExt cx="3200400" cy="1054080"/>
          </a:xfrm>
        </p:grpSpPr>
        <p:sp>
          <p:nvSpPr>
            <p:cNvPr id="142" name="Oval 32"/>
            <p:cNvSpPr/>
            <p:nvPr/>
          </p:nvSpPr>
          <p:spPr>
            <a:xfrm>
              <a:off x="5454720" y="5237280"/>
              <a:ext cx="849240" cy="35100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Relaunch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Oval 33"/>
            <p:cNvSpPr/>
            <p:nvPr/>
          </p:nvSpPr>
          <p:spPr>
            <a:xfrm>
              <a:off x="7634520" y="5963040"/>
              <a:ext cx="1020600" cy="32832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ostmortem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Arc 37"/>
            <p:cNvSpPr/>
            <p:nvPr/>
          </p:nvSpPr>
          <p:spPr>
            <a:xfrm>
              <a:off x="6310440" y="5393160"/>
              <a:ext cx="395280" cy="191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1" y="0"/>
                    <a:pt x="21532" y="9596"/>
                    <a:pt x="21599" y="21478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1" y="0"/>
                    <a:pt x="21532" y="9596"/>
                    <a:pt x="21599" y="2147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39536b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400" bIns="144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Arc 38"/>
            <p:cNvSpPr/>
            <p:nvPr/>
          </p:nvSpPr>
          <p:spPr>
            <a:xfrm>
              <a:off x="7643880" y="5704200"/>
              <a:ext cx="439920" cy="247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75" y="0"/>
                    <a:pt x="21523" y="9586"/>
                    <a:pt x="21599" y="21461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75" y="0"/>
                    <a:pt x="21523" y="9586"/>
                    <a:pt x="21599" y="21461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39536b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400" bIns="144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SP Process Structure and Flow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has four principa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can start 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n any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requirement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   through system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on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on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combin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8" name="Group 47"/>
          <p:cNvGrpSpPr/>
          <p:nvPr/>
        </p:nvGrpSpPr>
        <p:grpSpPr>
          <a:xfrm>
            <a:off x="4694400" y="1684440"/>
            <a:ext cx="4128120" cy="4769280"/>
            <a:chOff x="4694400" y="1684440"/>
            <a:chExt cx="4128120" cy="4769280"/>
          </a:xfrm>
        </p:grpSpPr>
        <p:grpSp>
          <p:nvGrpSpPr>
            <p:cNvPr id="149" name="Group 45"/>
            <p:cNvGrpSpPr/>
            <p:nvPr/>
          </p:nvGrpSpPr>
          <p:grpSpPr>
            <a:xfrm>
              <a:off x="4712040" y="4943160"/>
              <a:ext cx="3964320" cy="1510560"/>
              <a:chOff x="4712040" y="4943160"/>
              <a:chExt cx="3964320" cy="1510560"/>
            </a:xfrm>
          </p:grpSpPr>
          <p:sp>
            <p:nvSpPr>
              <p:cNvPr id="150" name="Rectangle 6"/>
              <p:cNvSpPr/>
              <p:nvPr/>
            </p:nvSpPr>
            <p:spPr>
              <a:xfrm>
                <a:off x="6340680" y="531828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1" name="Oval 10"/>
              <p:cNvSpPr/>
              <p:nvPr/>
            </p:nvSpPr>
            <p:spPr>
              <a:xfrm>
                <a:off x="4712040" y="4943160"/>
                <a:ext cx="848160" cy="350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7654680" y="6067800"/>
                <a:ext cx="102168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6476400" y="5457240"/>
                <a:ext cx="10213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4" name="Rectangle 19"/>
              <p:cNvSpPr/>
              <p:nvPr/>
            </p:nvSpPr>
            <p:spPr>
              <a:xfrm>
                <a:off x="6613920" y="5592240"/>
                <a:ext cx="10227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ntegr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and test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5" name="Arc 23"/>
              <p:cNvSpPr/>
              <p:nvPr/>
            </p:nvSpPr>
            <p:spPr>
              <a:xfrm>
                <a:off x="5556600" y="5064120"/>
                <a:ext cx="743040" cy="280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6" name="Arc 24"/>
              <p:cNvSpPr/>
              <p:nvPr/>
            </p:nvSpPr>
            <p:spPr>
              <a:xfrm>
                <a:off x="7665840" y="583452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44"/>
            <p:cNvGrpSpPr/>
            <p:nvPr/>
          </p:nvGrpSpPr>
          <p:grpSpPr>
            <a:xfrm>
              <a:off x="4712040" y="3819960"/>
              <a:ext cx="4110480" cy="1432080"/>
              <a:chOff x="4712040" y="3819960"/>
              <a:chExt cx="4110480" cy="1432080"/>
            </a:xfrm>
          </p:grpSpPr>
          <p:sp>
            <p:nvSpPr>
              <p:cNvPr id="158" name="Rectangle 5"/>
              <p:cNvSpPr/>
              <p:nvPr/>
            </p:nvSpPr>
            <p:spPr>
              <a:xfrm>
                <a:off x="6340680" y="4163400"/>
                <a:ext cx="10389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9" name="Oval 9"/>
              <p:cNvSpPr/>
              <p:nvPr/>
            </p:nvSpPr>
            <p:spPr>
              <a:xfrm>
                <a:off x="4712040" y="3819960"/>
                <a:ext cx="831960" cy="3344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>
                <a:off x="6476400" y="4300560"/>
                <a:ext cx="1039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6604920" y="4439160"/>
                <a:ext cx="117468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mplement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2" name="Arc 22"/>
              <p:cNvSpPr/>
              <p:nvPr/>
            </p:nvSpPr>
            <p:spPr>
              <a:xfrm>
                <a:off x="5537160" y="3926880"/>
                <a:ext cx="776520" cy="281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3" name="Oval 31"/>
              <p:cNvSpPr/>
              <p:nvPr/>
            </p:nvSpPr>
            <p:spPr>
              <a:xfrm>
                <a:off x="7801200" y="486612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4" name="Arc 32"/>
              <p:cNvSpPr/>
              <p:nvPr/>
            </p:nvSpPr>
            <p:spPr>
              <a:xfrm>
                <a:off x="7812360" y="46335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4712040" y="2751840"/>
              <a:ext cx="4010040" cy="1353960"/>
              <a:chOff x="4712040" y="2751840"/>
              <a:chExt cx="4010040" cy="1353960"/>
            </a:xfrm>
          </p:grpSpPr>
          <p:sp>
            <p:nvSpPr>
              <p:cNvPr id="166" name="Rectangle 4"/>
              <p:cNvSpPr/>
              <p:nvPr/>
            </p:nvSpPr>
            <p:spPr>
              <a:xfrm>
                <a:off x="6340680" y="3041640"/>
                <a:ext cx="10533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4712040" y="2751840"/>
                <a:ext cx="848160" cy="332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8" name="Rectangle 14"/>
              <p:cNvSpPr/>
              <p:nvPr/>
            </p:nvSpPr>
            <p:spPr>
              <a:xfrm>
                <a:off x="6476400" y="3179160"/>
                <a:ext cx="1057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Rectangle 15"/>
              <p:cNvSpPr/>
              <p:nvPr/>
            </p:nvSpPr>
            <p:spPr>
              <a:xfrm>
                <a:off x="6613920" y="3315960"/>
                <a:ext cx="10551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High-level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0" name="Arc 21"/>
              <p:cNvSpPr/>
              <p:nvPr/>
            </p:nvSpPr>
            <p:spPr>
              <a:xfrm>
                <a:off x="5574600" y="2856960"/>
                <a:ext cx="760680" cy="245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1" name="Oval 33"/>
              <p:cNvSpPr/>
              <p:nvPr/>
            </p:nvSpPr>
            <p:spPr>
              <a:xfrm>
                <a:off x="7701120" y="3719880"/>
                <a:ext cx="102096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2" name="Arc 34"/>
              <p:cNvSpPr/>
              <p:nvPr/>
            </p:nvSpPr>
            <p:spPr>
              <a:xfrm>
                <a:off x="7712280" y="34869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42"/>
            <p:cNvGrpSpPr/>
            <p:nvPr/>
          </p:nvGrpSpPr>
          <p:grpSpPr>
            <a:xfrm>
              <a:off x="4694400" y="1684440"/>
              <a:ext cx="3994560" cy="1353600"/>
              <a:chOff x="4694400" y="1684440"/>
              <a:chExt cx="3994560" cy="1353600"/>
            </a:xfrm>
          </p:grpSpPr>
          <p:sp>
            <p:nvSpPr>
              <p:cNvPr id="174" name="Rectangle 3"/>
              <p:cNvSpPr/>
              <p:nvPr/>
            </p:nvSpPr>
            <p:spPr>
              <a:xfrm>
                <a:off x="6358680" y="1976040"/>
                <a:ext cx="10209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5" name="Oval 7"/>
              <p:cNvSpPr/>
              <p:nvPr/>
            </p:nvSpPr>
            <p:spPr>
              <a:xfrm>
                <a:off x="4694400" y="1684440"/>
                <a:ext cx="831960" cy="3697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6" name="Rectangle 12"/>
              <p:cNvSpPr/>
              <p:nvPr/>
            </p:nvSpPr>
            <p:spPr>
              <a:xfrm>
                <a:off x="6494400" y="2112840"/>
                <a:ext cx="102168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7" name="Rectangle 13"/>
              <p:cNvSpPr/>
              <p:nvPr/>
            </p:nvSpPr>
            <p:spPr>
              <a:xfrm>
                <a:off x="6633720" y="2250000"/>
                <a:ext cx="10195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quirements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8" name="Arc 20"/>
              <p:cNvSpPr/>
              <p:nvPr/>
            </p:nvSpPr>
            <p:spPr>
              <a:xfrm>
                <a:off x="5572800" y="1840680"/>
                <a:ext cx="775080" cy="158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9" name="Oval 35"/>
              <p:cNvSpPr/>
              <p:nvPr/>
            </p:nvSpPr>
            <p:spPr>
              <a:xfrm>
                <a:off x="7667280" y="2652480"/>
                <a:ext cx="1021680" cy="38556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0" name="Arc 36"/>
              <p:cNvSpPr/>
              <p:nvPr/>
            </p:nvSpPr>
            <p:spPr>
              <a:xfrm>
                <a:off x="7678440" y="241920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SP Process Structure and Flow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phases can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hould overla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developmen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rategy encourag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remental develo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erative develo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ultiple builds or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structure mak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ost busines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3" name="Group 63"/>
          <p:cNvGrpSpPr/>
          <p:nvPr/>
        </p:nvGrpSpPr>
        <p:grpSpPr>
          <a:xfrm>
            <a:off x="4541760" y="1709640"/>
            <a:ext cx="4128480" cy="4769280"/>
            <a:chOff x="4541760" y="1709640"/>
            <a:chExt cx="4128480" cy="4769280"/>
          </a:xfrm>
        </p:grpSpPr>
        <p:grpSp>
          <p:nvGrpSpPr>
            <p:cNvPr id="184" name="Group 64"/>
            <p:cNvGrpSpPr/>
            <p:nvPr/>
          </p:nvGrpSpPr>
          <p:grpSpPr>
            <a:xfrm>
              <a:off x="4559400" y="4968360"/>
              <a:ext cx="3964680" cy="1510560"/>
              <a:chOff x="4559400" y="4968360"/>
              <a:chExt cx="3964680" cy="1510560"/>
            </a:xfrm>
          </p:grpSpPr>
          <p:sp>
            <p:nvSpPr>
              <p:cNvPr id="185" name="Rectangle 65"/>
              <p:cNvSpPr/>
              <p:nvPr/>
            </p:nvSpPr>
            <p:spPr>
              <a:xfrm>
                <a:off x="6188040" y="534348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6" name="Oval 66"/>
              <p:cNvSpPr/>
              <p:nvPr/>
            </p:nvSpPr>
            <p:spPr>
              <a:xfrm>
                <a:off x="4559400" y="4968360"/>
                <a:ext cx="848160" cy="350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7" name="Oval 67"/>
              <p:cNvSpPr/>
              <p:nvPr/>
            </p:nvSpPr>
            <p:spPr>
              <a:xfrm>
                <a:off x="7502400" y="6093000"/>
                <a:ext cx="102168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8" name="Rectangle 68"/>
              <p:cNvSpPr/>
              <p:nvPr/>
            </p:nvSpPr>
            <p:spPr>
              <a:xfrm>
                <a:off x="6323760" y="5482440"/>
                <a:ext cx="10213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9" name="Rectangle 69"/>
              <p:cNvSpPr/>
              <p:nvPr/>
            </p:nvSpPr>
            <p:spPr>
              <a:xfrm>
                <a:off x="6461640" y="5617440"/>
                <a:ext cx="10227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ntegr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and test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0" name="Arc 70"/>
              <p:cNvSpPr/>
              <p:nvPr/>
            </p:nvSpPr>
            <p:spPr>
              <a:xfrm>
                <a:off x="5403960" y="5089320"/>
                <a:ext cx="743040" cy="280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Arc 71"/>
              <p:cNvSpPr/>
              <p:nvPr/>
            </p:nvSpPr>
            <p:spPr>
              <a:xfrm>
                <a:off x="7513200" y="585972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72"/>
            <p:cNvGrpSpPr/>
            <p:nvPr/>
          </p:nvGrpSpPr>
          <p:grpSpPr>
            <a:xfrm>
              <a:off x="4559400" y="3845160"/>
              <a:ext cx="4110840" cy="1432080"/>
              <a:chOff x="4559400" y="3845160"/>
              <a:chExt cx="4110840" cy="1432080"/>
            </a:xfrm>
          </p:grpSpPr>
          <p:sp>
            <p:nvSpPr>
              <p:cNvPr id="193" name="Rectangle 73"/>
              <p:cNvSpPr/>
              <p:nvPr/>
            </p:nvSpPr>
            <p:spPr>
              <a:xfrm>
                <a:off x="6188040" y="4188600"/>
                <a:ext cx="10389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4" name="Oval 74"/>
              <p:cNvSpPr/>
              <p:nvPr/>
            </p:nvSpPr>
            <p:spPr>
              <a:xfrm>
                <a:off x="4559400" y="3845160"/>
                <a:ext cx="831960" cy="3344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Rectangle 75"/>
              <p:cNvSpPr/>
              <p:nvPr/>
            </p:nvSpPr>
            <p:spPr>
              <a:xfrm>
                <a:off x="6323760" y="4325760"/>
                <a:ext cx="1039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Rectangle 76"/>
              <p:cNvSpPr/>
              <p:nvPr/>
            </p:nvSpPr>
            <p:spPr>
              <a:xfrm>
                <a:off x="6452640" y="4464360"/>
                <a:ext cx="117468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mplement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7" name="Arc 77"/>
              <p:cNvSpPr/>
              <p:nvPr/>
            </p:nvSpPr>
            <p:spPr>
              <a:xfrm>
                <a:off x="5384520" y="3952080"/>
                <a:ext cx="776520" cy="281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8" name="Oval 78"/>
              <p:cNvSpPr/>
              <p:nvPr/>
            </p:nvSpPr>
            <p:spPr>
              <a:xfrm>
                <a:off x="7648920" y="489132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9" name="Arc 79"/>
              <p:cNvSpPr/>
              <p:nvPr/>
            </p:nvSpPr>
            <p:spPr>
              <a:xfrm>
                <a:off x="7660080" y="46587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0"/>
            <p:cNvGrpSpPr/>
            <p:nvPr/>
          </p:nvGrpSpPr>
          <p:grpSpPr>
            <a:xfrm>
              <a:off x="4559400" y="2777040"/>
              <a:ext cx="4010760" cy="1353960"/>
              <a:chOff x="4559400" y="2777040"/>
              <a:chExt cx="4010760" cy="1353960"/>
            </a:xfrm>
          </p:grpSpPr>
          <p:sp>
            <p:nvSpPr>
              <p:cNvPr id="201" name="Rectangle 81"/>
              <p:cNvSpPr/>
              <p:nvPr/>
            </p:nvSpPr>
            <p:spPr>
              <a:xfrm>
                <a:off x="6188040" y="3066840"/>
                <a:ext cx="10537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2" name="Oval 82"/>
              <p:cNvSpPr/>
              <p:nvPr/>
            </p:nvSpPr>
            <p:spPr>
              <a:xfrm>
                <a:off x="4559400" y="2777040"/>
                <a:ext cx="848160" cy="332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3" name="Rectangle 83"/>
              <p:cNvSpPr/>
              <p:nvPr/>
            </p:nvSpPr>
            <p:spPr>
              <a:xfrm>
                <a:off x="6323760" y="3204360"/>
                <a:ext cx="1057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4" name="Rectangle 84"/>
              <p:cNvSpPr/>
              <p:nvPr/>
            </p:nvSpPr>
            <p:spPr>
              <a:xfrm>
                <a:off x="6461640" y="3341160"/>
                <a:ext cx="10551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High-level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5" name="Arc 85"/>
              <p:cNvSpPr/>
              <p:nvPr/>
            </p:nvSpPr>
            <p:spPr>
              <a:xfrm>
                <a:off x="5421960" y="2882160"/>
                <a:ext cx="760680" cy="245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6" name="Oval 86"/>
              <p:cNvSpPr/>
              <p:nvPr/>
            </p:nvSpPr>
            <p:spPr>
              <a:xfrm>
                <a:off x="7548840" y="374508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7" name="Arc 87"/>
              <p:cNvSpPr/>
              <p:nvPr/>
            </p:nvSpPr>
            <p:spPr>
              <a:xfrm>
                <a:off x="7560000" y="35121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88"/>
            <p:cNvGrpSpPr/>
            <p:nvPr/>
          </p:nvGrpSpPr>
          <p:grpSpPr>
            <a:xfrm>
              <a:off x="4541760" y="1709640"/>
              <a:ext cx="3994920" cy="1353600"/>
              <a:chOff x="4541760" y="1709640"/>
              <a:chExt cx="3994920" cy="1353600"/>
            </a:xfrm>
          </p:grpSpPr>
          <p:sp>
            <p:nvSpPr>
              <p:cNvPr id="209" name="Rectangle 89"/>
              <p:cNvSpPr/>
              <p:nvPr/>
            </p:nvSpPr>
            <p:spPr>
              <a:xfrm>
                <a:off x="6206040" y="200124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Oval 90"/>
              <p:cNvSpPr/>
              <p:nvPr/>
            </p:nvSpPr>
            <p:spPr>
              <a:xfrm>
                <a:off x="4541760" y="1709640"/>
                <a:ext cx="831960" cy="3697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1" name="Rectangle 91"/>
              <p:cNvSpPr/>
              <p:nvPr/>
            </p:nvSpPr>
            <p:spPr>
              <a:xfrm>
                <a:off x="6341760" y="2138040"/>
                <a:ext cx="102168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2" name="Rectangle 92"/>
              <p:cNvSpPr/>
              <p:nvPr/>
            </p:nvSpPr>
            <p:spPr>
              <a:xfrm>
                <a:off x="6481080" y="2275200"/>
                <a:ext cx="10195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quirements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3" name="Arc 93"/>
              <p:cNvSpPr/>
              <p:nvPr/>
            </p:nvSpPr>
            <p:spPr>
              <a:xfrm>
                <a:off x="5420520" y="1865880"/>
                <a:ext cx="775080" cy="158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4" name="Oval 94"/>
              <p:cNvSpPr/>
              <p:nvPr/>
            </p:nvSpPr>
            <p:spPr>
              <a:xfrm>
                <a:off x="7515000" y="2677680"/>
                <a:ext cx="1021680" cy="38556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5" name="Arc 95"/>
              <p:cNvSpPr/>
              <p:nvPr/>
            </p:nvSpPr>
            <p:spPr>
              <a:xfrm>
                <a:off x="7525800" y="244440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o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or relaunch occ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eginning of every projec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substantive changes to the plan are requi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may also be needed when new members are added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ze them with the team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 them into the team’s 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ir agreement with th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the launch is to establish a common team understanding of the following project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goals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and team members’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s that the team members will per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work to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es that the team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for doing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and customer reporting 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going team communic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Workshop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is a four-day workshop used to kick off each projec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launch workshop, the team produces a comprehensive plan for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is considered to be part of the project work (it is planned and tracked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6008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05408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5408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03696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80656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top-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own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xt-phas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80656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80656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 bottom-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up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174132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56868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56868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65428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265428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486504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463536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463536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463536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539748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539748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 flipV="1">
            <a:off x="448308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448308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3568680" y="605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 flipV="1">
            <a:off x="356868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77016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654048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54048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w teams: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SP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V="1">
            <a:off x="638820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638820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>
            <a:off x="5397480" y="6058080"/>
            <a:ext cx="9907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V="1">
            <a:off x="539748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105408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>
            <a:off x="174132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 flipV="1">
            <a:off x="174132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 flipH="1">
            <a:off x="1741320" y="6058080"/>
            <a:ext cx="9129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begins with a meeting between the entire team and representatives from management (executives and/or marketing specialist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representatives explain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ed for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siness goals fulfilled by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le resources for producing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red functionality of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and budget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has a chance to ask questions and get clarification of any issues that concern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iscusses the management goals outlined in meeting 1 and uses these as a basis for defining their own goals for this project that mesh to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d management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ied goals derived from stated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lso choose roles, as discuss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elf-management responsibilities are shared among team members through eight defined team member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Interface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cts as team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oles are not time consum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should have a team member role in addition to their normal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role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eam input on their deci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their role duties promptly and professio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nother team member as an altern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disciplined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, track,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and contribute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eam Leader’s Ro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does not take one of the eight team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’s job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 the team in do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maintain high standards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team accountable for problem solv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the team-directed management conce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s 3 and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oduces a conceptual design of the product.  The conceptual design is outlined only in sufficient detail for planning the work.  It is not meant to be the final blueprint for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chooses the processes that they will use for planning, measuring, and tracking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the conceptual design, the team decides on what work will be done during the entire project (top-down plan) and then during the next few months (next-phase plan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the TSP, each team member and the team are responsible for the quality of the work and the entire team agrees on the quality goals for th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also agrees on methods for certifying high quality at individual and team leve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certify that their products are of high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PSP quality methods and evaluate with PSP dat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duct personal and peer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ll for team assistance as need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certifies that each component is of high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ions or walk-throug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inspection as need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on/system test accep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6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lans the next-phase work in detail.  They use the conceptual design to generate a list of tasks to produced the desired outcomes for the nex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allocated to the individual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makes an individual plan based on his/her task list, schedule availability, and productivity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dividual plans are consolidated into a team plan.  If necessary, tasks are reallocated to ensure that the work load is balanced among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dentifies any risks that are likely to affect their plan.  Each risk is rated as high, medium, low as to impact on the project and likelihood of occurr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tigation strategies are generated for any risk with a “high” ra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allocated for tracking among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epares a presentation to give management an overview of thei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sentation 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lestone dates for completion of major components and the project as a who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was not able to meet management’s requested schedule, they present alternative propos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resources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erative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9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esents its plan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asks questions about the plan (and any alternative proposal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meeting 9, the team and management should reach agreement on one of the plans presen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Postmorte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and team members meet to discuss how things went during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rked we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not work we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ions for improving the launch process in future laun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 Team Software Process (TSP) was develop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key TSP conce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are team-directed.  Being a team-directed project means that the team manages itself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ir work agains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s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s aggressively to meet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also show management and the customer that they are managing themsel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quently report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, plan for, and report on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mechanism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ing their status to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ing information for management and customer repo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keeps the project on track by reviewing status and planned work for the team and each team member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objective is to ensure that all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urrent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at tasks are nex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ware of everyone’s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status against the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actions needed to ensure high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key project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key team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ing 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n their personal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racking in the TSP is based on the principles and measures used in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7201080" y="4635360"/>
            <a:ext cx="990360" cy="609840"/>
          </a:xfrm>
          <a:prstGeom prst="rect">
            <a:avLst/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389560" y="5016600"/>
            <a:ext cx="9921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354800" y="4788000"/>
            <a:ext cx="989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6667560" y="3720960"/>
            <a:ext cx="687240" cy="152640"/>
          </a:xfrm>
          <a:prstGeom prst="rightArrow">
            <a:avLst>
              <a:gd name="adj1" fmla="val 50000"/>
              <a:gd name="adj2" fmla="val 112559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469280" y="4940280"/>
            <a:ext cx="9903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ngine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389560" y="1968480"/>
            <a:ext cx="9921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1181160" y="3494160"/>
            <a:ext cx="3608280" cy="608040"/>
          </a:xfrm>
          <a:custGeom>
            <a:avLst/>
            <a:gdLst>
              <a:gd name="textAreaLeft" fmla="*/ 563760 w 3608280"/>
              <a:gd name="textAreaRight" fmla="*/ 3157560 w 3608280"/>
              <a:gd name="textAreaTop" fmla="*/ 151920 h 608040"/>
              <a:gd name="textAreaBottom" fmla="*/ 456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 rot="3111600">
            <a:off x="99036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 rot="3111600">
            <a:off x="274320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 rot="18417000">
            <a:off x="28191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 rot="18417000">
            <a:off x="9903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419040" y="4710240"/>
            <a:ext cx="1371600" cy="915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defects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y component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2400480" y="47880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on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Oval 15"/>
          <p:cNvSpPr/>
          <p:nvPr/>
        </p:nvSpPr>
        <p:spPr>
          <a:xfrm>
            <a:off x="2400480" y="19684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week of 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le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495360" y="1890720"/>
            <a:ext cx="1371600" cy="915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im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846760" y="417816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 rot="10800000">
            <a:off x="5846400" y="257760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4789440" y="3340080"/>
            <a:ext cx="21830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pdated team and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gineer task, schedule,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quality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 rot="5010600">
            <a:off x="7505280" y="4483080"/>
            <a:ext cx="876240" cy="114120"/>
          </a:xfrm>
          <a:prstGeom prst="rightArrow">
            <a:avLst>
              <a:gd name="adj1" fmla="val 50000"/>
              <a:gd name="adj2" fmla="val 191956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 rot="6050400">
            <a:off x="7372080" y="4159080"/>
            <a:ext cx="876240" cy="152640"/>
          </a:xfrm>
          <a:prstGeom prst="rightArrow">
            <a:avLst>
              <a:gd name="adj1" fmla="val 50000"/>
              <a:gd name="adj2" fmla="val 143514"/>
            </a:avLst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 rot="5535600">
            <a:off x="7429680" y="4331160"/>
            <a:ext cx="876600" cy="112680"/>
          </a:xfrm>
          <a:prstGeom prst="rightArrow">
            <a:avLst>
              <a:gd name="adj1" fmla="val 50000"/>
              <a:gd name="adj2" fmla="val 194489"/>
            </a:avLst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 rot="15351000">
            <a:off x="7219800" y="3074760"/>
            <a:ext cx="992160" cy="150840"/>
          </a:xfrm>
          <a:prstGeom prst="rightArrow">
            <a:avLst>
              <a:gd name="adj1" fmla="val 50000"/>
              <a:gd name="adj2" fmla="val 164439"/>
            </a:avLst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 rot="16015200">
            <a:off x="7315200" y="314892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 rot="16507200">
            <a:off x="7391880" y="3302640"/>
            <a:ext cx="990720" cy="150840"/>
          </a:xfrm>
          <a:prstGeom prst="rightArrow">
            <a:avLst>
              <a:gd name="adj1" fmla="val 50000"/>
              <a:gd name="adj2" fmla="val 164200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7354800" y="3494160"/>
            <a:ext cx="1206720" cy="6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task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7277040" y="1968480"/>
            <a:ext cx="99072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7354800" y="2120760"/>
            <a:ext cx="98928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7469280" y="2274840"/>
            <a:ext cx="990360" cy="6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ngine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Plan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team and individual plans facilitate precise project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(in pages or lines of cod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in minutes per phase or tas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(by pha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/tracking with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PSP elements will be explained in detail in the remainder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17360" y="1734840"/>
            <a:ext cx="67165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was developed to help software teams to build high quality products, on time, on schedule, every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fosters teamwork through 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aunch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taile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ine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-directed management approa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ekly status 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undation of TSP is the commitment of individual team members to using the PSP methods and principles in which they were trai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effectiv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found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in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teams are both satisfying and r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hough many teams come close to meeting their product and business goals, they often do so at the expense of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describe a team that works together smoothly and efficiently as being a “jelled team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jelled team is…greater than the sum of its parts… and the enjoyment people derive from the work is greater than you would expect.”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39536b"/>
                </a:solidFill>
                <a:uFillTx/>
                <a:latin typeface="Arial"/>
              </a:rPr>
              <a:t>Peopleware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DeMarco and Lis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Jelled Tea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tificially-jelled teams can be built quickly through “team-building” exerci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treats, seminars,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mes (paintball, laser tag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ived challenges (e.g., blind obstacle cours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-building activities are unlikely to produce long-term team success unless they address real workplac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roles, goals,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of team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 proven-effective way of building jelled teams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was developed to address the need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ing teams who can build quality products within cost and schedule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eams quickly and reliab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timizing team performance throughout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lerating software proces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use of mature processes normal and exp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are familiar with the SEI Capability Maturity Model or the Capability Maturity Model Integration, think of TSP as a CMM/CMMI maturity level 5 process fo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ed for Personal Discip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successful high-performance teams requires more than technical ability; team members must be committed to the concept of personal discip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 means that all team members understand their own abilities and can make realistic commitments to each other an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develop personal discipline by learning the principles of the Personal Software Process (PSP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ersonal Software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-trained engineers learn process discipline by us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methods to do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to plan and manage their work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sential elements learned in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nd planning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dules 3 through 9 of this course will provide you with a sufficient overview of PSP principles to enable you to work on a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4T13:18:51Z</cp:lastPrinted>
  <dcterms:modified xsi:type="dcterms:W3CDTF">2018-09-06T00:16:01Z</dcterms:modified>
  <cp:revision>165</cp:revision>
  <dc:subject/>
  <dc:title>No Slide Title</dc:title>
</cp:coreProperties>
</file>